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十章：数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2" name=""/>
          <p:cNvSpPr/>
          <p:nvPr/>
        </p:nvSpPr>
        <p:spPr>
          <a:xfrm>
            <a:off x="749160" y="2749680"/>
            <a:ext cx="1150632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可以只给部分元素赋初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当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｛｝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中值的个数少于元素个数时，只给前面部分元素赋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例如：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int a[10]={0,1,2,3,4}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只能给元素逐个赋值，不能给数组整体赋值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例如给十个元素全部赋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值，只能写为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int a[10]={1,1,1,1,1,1,1,1,1,1}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而不能写为：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int a[10]=1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如给全部元素赋值，则在数组说明中，可以不给出数组元素的个数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例如：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int a[5]={1,2,3,4,5}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可写为：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int a[]={1,2,3,4,5}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动态的对数组赋值，并求出最大的值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4" name=""/>
          <p:cNvSpPr/>
          <p:nvPr/>
        </p:nvSpPr>
        <p:spPr>
          <a:xfrm>
            <a:off x="2171880" y="2768760"/>
            <a:ext cx="93214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[10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0;i&lt;10;i++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a[i]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x=a[0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1;i&lt;10;i++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a[i]&gt;max) max=a[i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printf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\n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max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动态的对数组赋值，并排序</a:t>
            </a:r>
            <a:endParaRPr b="0" lang="en-US" sz="4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6" name=""/>
          <p:cNvSpPr/>
          <p:nvPr/>
        </p:nvSpPr>
        <p:spPr>
          <a:xfrm>
            <a:off x="3718080" y="2081880"/>
            <a:ext cx="5554080" cy="70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#define NUM 3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#define SWAP(x,y) x=x+y;y=x-y;x=x-y;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5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5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5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5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5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[NUM];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0;i&lt;NUM;i++)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scanf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5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"%d"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&amp;a[i]);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0;i&lt;NUM;i++)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j=i;j&lt;NUM-1;j++)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f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a[j]&gt;a[j+1])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SWAP(a[j],a[j+1]);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0;i&lt;NUM;i++)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5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a[i]);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5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5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5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1955880" y="1827360"/>
            <a:ext cx="9080280" cy="54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数组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2286000"/>
            <a:ext cx="1148076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在程序设计中，为了处理方便，把具有相同类型的若干变量按有序的形式组织起来。这些按序排列的同类数据元素的集合称为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数组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。在Ｃ语言中，数组属于构造数据类型。一个数组可以分解为多个数组元素，这些数组元素可以是基本数据类型或是构造类型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一维数组的定义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0" name=""/>
          <p:cNvSpPr/>
          <p:nvPr/>
        </p:nvSpPr>
        <p:spPr>
          <a:xfrm>
            <a:off x="241200" y="2120760"/>
            <a:ext cx="125222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在Ｃ语言中使用数组必须先进行定义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一维数组的定义方式为：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3000" spc="-1" strike="noStrike">
                <a:solidFill>
                  <a:srgbClr val="ffff00"/>
                </a:solidFill>
                <a:latin typeface="宋体"/>
                <a:ea typeface="宋体"/>
              </a:rPr>
              <a:t>类型说明符 数组名 </a:t>
            </a:r>
            <a:r>
              <a:rPr b="0" lang="en-US" sz="3000" spc="-1" strike="noStrike">
                <a:solidFill>
                  <a:srgbClr val="ffff00"/>
                </a:solidFill>
                <a:latin typeface="宋体"/>
                <a:ea typeface="宋体"/>
              </a:rPr>
              <a:t>[</a:t>
            </a:r>
            <a:r>
              <a:rPr b="0" lang="zh-CN" sz="3000" spc="-1" strike="noStrike">
                <a:solidFill>
                  <a:srgbClr val="ffff00"/>
                </a:solidFill>
                <a:latin typeface="宋体"/>
                <a:ea typeface="宋体"/>
              </a:rPr>
              <a:t>常量表达式</a:t>
            </a:r>
            <a:r>
              <a:rPr b="0" lang="en-US" sz="3000" spc="-1" strike="noStrike">
                <a:solidFill>
                  <a:srgbClr val="ffff00"/>
                </a:solidFill>
                <a:latin typeface="宋体"/>
                <a:ea typeface="宋体"/>
              </a:rPr>
              <a:t>]</a:t>
            </a:r>
            <a:r>
              <a:rPr b="0" lang="zh-CN" sz="3000" spc="-1" strike="noStrike">
                <a:solidFill>
                  <a:srgbClr val="ffff00"/>
                </a:solidFill>
                <a:latin typeface="宋体"/>
                <a:ea typeface="宋体"/>
              </a:rPr>
              <a:t>；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其中：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类型说明符是任一种基本数据类型或构造数据类型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数组名是用户定义的数组标识符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方括号中的常量表达式表示数据元素的个数，也称为数组的长度。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宋体"/>
              </a:rPr>
              <a:t>例如：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int a[10];      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说明整型数组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有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10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个元素。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float b[10],c[20];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说明实型数组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b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有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10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个元素，实型数组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有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个元素。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char ch[20];    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说明字符数组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ch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有</a:t>
            </a:r>
            <a:r>
              <a:rPr b="0" lang="en-US" sz="25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个元素。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说明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2" name=""/>
          <p:cNvSpPr/>
          <p:nvPr/>
        </p:nvSpPr>
        <p:spPr>
          <a:xfrm>
            <a:off x="977760" y="2336760"/>
            <a:ext cx="1134108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数组的类型实际上是指数组元素的取值类型。对于同一个数组，其所有元素的数据类型都是相同的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数组名的书写规则应符合标识符的书写规定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数组名不能与其它变量名相同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4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方括号中常量表达式表示数组元素的个数，如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int a[5]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表示数组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有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个元素。但是其下标从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开始计算。因此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个元素分别为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a[0],a[1],a[2],a[3],a[4]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5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能在方括号中用变量来表示元素的个数，但是可以是符号常数或常量表达式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6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允许在同一个类型说明中，说明多个数组和多个变量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266760" indent="-26676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例如：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int a,b,c,d,k1[10],k2[20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数组定义是否合法？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a[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i = 3;  int a[i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3d[10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_c[3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b[2+1]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t i = 3; int b[i+3]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一维数组元素的引用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6" name=""/>
          <p:cNvSpPr/>
          <p:nvPr/>
        </p:nvSpPr>
        <p:spPr>
          <a:xfrm>
            <a:off x="901800" y="2432160"/>
            <a:ext cx="11188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数组元素是组成数组的基本单元。数组元素也是一种变量，其标识方法为数组名后跟一个下标。下标表示了元素在数组中的顺序号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数组元素的一般形式为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数组名</a:t>
            </a:r>
            <a:r>
              <a:rPr b="0" lang="en-US" sz="3600" spc="-1" strike="noStrike">
                <a:solidFill>
                  <a:srgbClr val="ffff00"/>
                </a:solidFill>
                <a:latin typeface="宋体"/>
                <a:ea typeface="宋体"/>
              </a:rPr>
              <a:t>[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下标</a:t>
            </a:r>
            <a:r>
              <a:rPr b="0" lang="en-US" sz="3600" spc="-1" strike="noStrike">
                <a:solidFill>
                  <a:srgbClr val="ffff00"/>
                </a:solidFill>
                <a:latin typeface="宋体"/>
                <a:ea typeface="宋体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中下标只能为整型常量或整型表达式。如为小数时，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编译将自动取整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例如：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a[5],a[i+j],a[i++]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都是合法的数组元素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800" spc="-1" strike="noStrike">
                <a:solidFill>
                  <a:srgbClr val="626053"/>
                </a:solidFill>
                <a:latin typeface="Baskerville"/>
                <a:ea typeface="华文宋体"/>
              </a:rPr>
              <a:t>例：数组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18" name=""/>
          <p:cNvSpPr/>
          <p:nvPr/>
        </p:nvSpPr>
        <p:spPr>
          <a:xfrm>
            <a:off x="1625760" y="2368440"/>
            <a:ext cx="9753480" cy="65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main 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rgc,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ons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cha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argv[])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* pool = [[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AutoreleasePool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alloc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ini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a[10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0;i&lt;10;i++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a[i] = i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0;i&lt;10;i++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a[i]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i=9;i&gt;=0;i--)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NSLog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(</a:t>
            </a:r>
            <a:r>
              <a:rPr b="0" lang="en-US" sz="1800" spc="-1" strike="noStrike">
                <a:solidFill>
                  <a:srgbClr val="666666"/>
                </a:solidFill>
                <a:latin typeface="Menlo Regular"/>
                <a:ea typeface="Menlo Regular"/>
              </a:rPr>
              <a:t>@"%d"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,a[i])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onaco"/>
              </a:rPr>
              <a:t>	</a:t>
            </a:r>
            <a:r>
              <a:rPr b="0" lang="en-US" sz="1800" spc="-1" strike="noStrike">
                <a:solidFill>
                  <a:srgbClr val="b20000"/>
                </a:solidFill>
                <a:latin typeface="Menlo Regular"/>
                <a:ea typeface="Menlo Regular"/>
              </a:rPr>
              <a:t>//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[pool </a:t>
            </a:r>
            <a:r>
              <a:rPr b="0" lang="en-US" sz="1800" spc="-1" strike="noStrike">
                <a:solidFill>
                  <a:srgbClr val="476a97"/>
                </a:solidFill>
                <a:latin typeface="Menlo Regular"/>
                <a:ea typeface="Menlo Regular"/>
              </a:rPr>
              <a:t>drai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   </a:t>
            </a:r>
            <a:r>
              <a:rPr b="0" lang="en-US" sz="1800" spc="-1" strike="noStrike">
                <a:solidFill>
                  <a:srgbClr val="d31679"/>
                </a:solidFill>
                <a:latin typeface="Menlo Regular"/>
                <a:ea typeface="Menlo Regular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 0;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Menlo Regula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一维数组的初始化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0" name=""/>
          <p:cNvSpPr/>
          <p:nvPr/>
        </p:nvSpPr>
        <p:spPr>
          <a:xfrm>
            <a:off x="355680" y="2419200"/>
            <a:ext cx="1229364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数组初始化赋值是指在数组定义时给数组元素赋予初值。数组初始化是在编译阶段进行的。这样将减少运行时间，提高效率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初始化赋值的一般形式为：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类型说明符 数组名</a:t>
            </a:r>
            <a:r>
              <a:rPr b="0" lang="en-US" sz="3600" spc="-1" strike="noStrike">
                <a:solidFill>
                  <a:srgbClr val="ffff00"/>
                </a:solidFill>
                <a:latin typeface="宋体"/>
                <a:ea typeface="宋体"/>
              </a:rPr>
              <a:t>[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常量表达式</a:t>
            </a:r>
            <a:r>
              <a:rPr b="0" lang="en-US" sz="3600" spc="-1" strike="noStrike">
                <a:solidFill>
                  <a:srgbClr val="ffff00"/>
                </a:solidFill>
                <a:latin typeface="宋体"/>
                <a:ea typeface="宋体"/>
              </a:rPr>
              <a:t>]={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值，值</a:t>
            </a:r>
            <a:r>
              <a:rPr b="0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…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值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}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  <a:ea typeface="宋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中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｛｝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中的各数据值即为各元素的初值，各值之间用逗号间隔。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例如：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int a[10]={ 0,1,2,3,4,5,6,7,8,9 }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